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AF5-6593-4674-80BB-69A825BD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5C6-8316-4912-BA50-2CEF647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BBC-AC83-4F72-9889-161CD965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59C-2DA7-45F4-A5BE-E9624CCC5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33B-6F4A-4D96-97FD-653081EA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579-1D29-4BF8-A3FB-0AE81286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101-ACF7-4C2E-8FD9-7BC1771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DFF-D614-4A38-B98A-C6A4AFC1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6E3-3D83-4FC9-B370-293326F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A54-9A1B-40EC-B54C-3046442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E52-281A-4672-81AD-4ADC66E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E07-64FE-43D0-90D7-F87423D8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1E59-41F1-4289-B4E5-DEDF13D2B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 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PICTUR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81360" y="1535040"/>
            <a:ext cx="546264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9:04:17Z</dcterms:created>
  <dc:creator>mriley</dc:creator>
  <dc:description/>
  <dc:language>en-US</dc:language>
  <cp:lastModifiedBy>mriley</cp:lastModifiedBy>
  <dcterms:modified xsi:type="dcterms:W3CDTF">2008-11-11T21:14:06Z</dcterms:modified>
  <cp:revision>9</cp:revision>
  <dc:subject/>
  <dc:title>Slide 1</dc:title>
</cp:coreProperties>
</file>